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86A28-A390-46F5-A14A-0BF53C87778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1B32F-EA91-4062-ADB0-6E0D60946D6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FC50D-240E-4D5E-BE7D-FFD8757B615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647FD-1C17-42A3-89C2-A2661BF74DE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316C3-BC59-485E-9D08-8E4802378FE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9263A-F49A-43D0-B01B-B2103F2B22F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2AC14-C4EB-4A7D-842D-EDA3C968788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5A30C-A27B-4A42-BB40-F365AD090E3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2878F-D8D5-4A9D-8186-9CCB7933B9B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81597-DE8E-4728-97A2-541A46FA16F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D7B7A-963C-463D-816C-158095471CE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FB72C-BB9B-4565-906B-D598825D74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6C496-B99C-40F0-9A50-502C5467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DF14F-8BC4-4226-8D30-D66CFCE2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45FD1-46B4-491C-9808-DABAB84D08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29DA5-1CF8-448D-829C-AADBEE22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DBEEC-04DA-402A-B1F8-907E9822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1B03-30F6-409E-939B-5B352521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CB239-95AF-4220-9A5C-392B32FA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D4F9A-1269-48A7-A6FC-F96B93D9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B2653-9DEF-4145-8C7B-42BF4495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169BD-3064-4A00-BD7B-9B4AA546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8D33-510B-456F-AF6E-153F9FE8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B5BE83-14EA-407D-9260-1C770896B9BF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FORMACIÓN DE 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OS DISTINTOS TIPOS DE R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los distintos tipos de r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564000" y="1484280"/>
            <a:ext cx="1800000" cy="1079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60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TIPO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O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3456000" y="3284640"/>
            <a:ext cx="1979640" cy="1079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60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TAMÓRF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1224000" y="3284640"/>
            <a:ext cx="1800360" cy="1079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60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GMÁ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5904000" y="3284640"/>
            <a:ext cx="1979640" cy="1079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60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DIMENTA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12"/>
          <p:cNvSpPr/>
          <p:nvPr/>
        </p:nvSpPr>
        <p:spPr>
          <a:xfrm>
            <a:off x="2124000" y="2924280"/>
            <a:ext cx="4756320" cy="1440"/>
          </a:xfrm>
          <a:custGeom>
            <a:avLst/>
            <a:gdLst>
              <a:gd name="textAreaLeft" fmla="*/ 0 w 4756320"/>
              <a:gd name="textAreaRight" fmla="*/ 4756680 w 4756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3213" h="4">
                <a:moveTo>
                  <a:pt x="0" y="0"/>
                </a:moveTo>
                <a:lnTo>
                  <a:pt x="13212" y="3"/>
                </a:lnTo>
              </a:path>
            </a:pathLst>
          </a:custGeom>
          <a:noFill/>
          <a:ln w="360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reeform 14"/>
          <p:cNvSpPr/>
          <p:nvPr/>
        </p:nvSpPr>
        <p:spPr>
          <a:xfrm>
            <a:off x="4464000" y="2563920"/>
            <a:ext cx="1800" cy="360360"/>
          </a:xfrm>
          <a:custGeom>
            <a:avLst/>
            <a:gdLst>
              <a:gd name="textAreaLeft" fmla="*/ 0 w 1800"/>
              <a:gd name="textAreaRight" fmla="*/ 2160 w 1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" h="1001">
                <a:moveTo>
                  <a:pt x="0" y="0"/>
                </a:moveTo>
                <a:lnTo>
                  <a:pt x="0" y="1000"/>
                </a:lnTo>
              </a:path>
            </a:pathLst>
          </a:custGeom>
          <a:noFill/>
          <a:ln w="360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reeform 15"/>
          <p:cNvSpPr/>
          <p:nvPr/>
        </p:nvSpPr>
        <p:spPr>
          <a:xfrm>
            <a:off x="2124000" y="2924280"/>
            <a:ext cx="1800" cy="360360"/>
          </a:xfrm>
          <a:custGeom>
            <a:avLst/>
            <a:gdLst>
              <a:gd name="textAreaLeft" fmla="*/ 0 w 1800"/>
              <a:gd name="textAreaRight" fmla="*/ 2160 w 1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" h="1001">
                <a:moveTo>
                  <a:pt x="0" y="0"/>
                </a:moveTo>
                <a:lnTo>
                  <a:pt x="0" y="1000"/>
                </a:lnTo>
              </a:path>
            </a:pathLst>
          </a:custGeom>
          <a:noFill/>
          <a:ln w="360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reeform 16"/>
          <p:cNvSpPr/>
          <p:nvPr/>
        </p:nvSpPr>
        <p:spPr>
          <a:xfrm>
            <a:off x="4464000" y="2924280"/>
            <a:ext cx="1800" cy="360360"/>
          </a:xfrm>
          <a:custGeom>
            <a:avLst/>
            <a:gdLst>
              <a:gd name="textAreaLeft" fmla="*/ 0 w 1800"/>
              <a:gd name="textAreaRight" fmla="*/ 2160 w 1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" h="1001">
                <a:moveTo>
                  <a:pt x="0" y="0"/>
                </a:moveTo>
                <a:lnTo>
                  <a:pt x="0" y="1000"/>
                </a:lnTo>
              </a:path>
            </a:pathLst>
          </a:custGeom>
          <a:noFill/>
          <a:ln w="360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Freeform 17"/>
          <p:cNvSpPr/>
          <p:nvPr/>
        </p:nvSpPr>
        <p:spPr>
          <a:xfrm>
            <a:off x="6880320" y="2924280"/>
            <a:ext cx="1440" cy="360360"/>
          </a:xfrm>
          <a:custGeom>
            <a:avLst/>
            <a:gdLst>
              <a:gd name="textAreaLeft" fmla="*/ 0 w 1440"/>
              <a:gd name="textAreaRight" fmla="*/ 1800 w 14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" h="1001">
                <a:moveTo>
                  <a:pt x="0" y="0"/>
                </a:moveTo>
                <a:lnTo>
                  <a:pt x="0" y="1000"/>
                </a:lnTo>
              </a:path>
            </a:pathLst>
          </a:custGeom>
          <a:noFill/>
          <a:ln w="360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1908000" y="522936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los distintos tipos de r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formación de las rocas magmá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958680" y="3762360"/>
            <a:ext cx="7140600" cy="2176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1042920" y="1557360"/>
            <a:ext cx="287964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magma (masas muy calientes de minerales fundidos) asciende lentamente hacia la superficie terrestre, a través de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litosfe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211640" y="1484280"/>
            <a:ext cx="23050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magmas que salen a la superficie a través de los volcanes, se enfrían deprisa originando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volcánic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6983280" y="1268280"/>
            <a:ext cx="216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magmas que no salen al exterior, se enfrían lentamente dando lugar 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plutónic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7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23 CuadroTexto"/>
          <p:cNvSpPr/>
          <p:nvPr/>
        </p:nvSpPr>
        <p:spPr>
          <a:xfrm>
            <a:off x="611280" y="1628640"/>
            <a:ext cx="360360" cy="36828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23 CuadroTexto"/>
          <p:cNvSpPr/>
          <p:nvPr/>
        </p:nvSpPr>
        <p:spPr>
          <a:xfrm>
            <a:off x="3780000" y="1557360"/>
            <a:ext cx="360360" cy="36828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23 CuadroTexto"/>
          <p:cNvSpPr/>
          <p:nvPr/>
        </p:nvSpPr>
        <p:spPr>
          <a:xfrm>
            <a:off x="6588000" y="1341360"/>
            <a:ext cx="360360" cy="36828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24 Conector recto"/>
          <p:cNvSpPr/>
          <p:nvPr/>
        </p:nvSpPr>
        <p:spPr>
          <a:xfrm flipV="1">
            <a:off x="2627280" y="2997000"/>
            <a:ext cx="0" cy="18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25 Conector recto"/>
          <p:cNvSpPr/>
          <p:nvPr/>
        </p:nvSpPr>
        <p:spPr>
          <a:xfrm flipV="1">
            <a:off x="5003640" y="299700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27 Conector recto"/>
          <p:cNvSpPr/>
          <p:nvPr/>
        </p:nvSpPr>
        <p:spPr>
          <a:xfrm flipH="1" flipV="1">
            <a:off x="5003640" y="393336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31 Conector recto"/>
          <p:cNvSpPr/>
          <p:nvPr/>
        </p:nvSpPr>
        <p:spPr>
          <a:xfrm flipV="1">
            <a:off x="7164360" y="2997000"/>
            <a:ext cx="0" cy="18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los distintos tipos de r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formación de las rocas metamórf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042920" y="2349360"/>
            <a:ext cx="28796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gunas rocas de la litosfera sufren grandes presiones y temperatur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716360" y="1989000"/>
            <a:ext cx="3743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altas presiones y temperaturas hacen que las rocas de la zona sufran transformaciones que las convierten en rocas metamórfic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1" descr=""/>
          <p:cNvPicPr/>
          <p:nvPr/>
        </p:nvPicPr>
        <p:blipFill>
          <a:blip r:embed="rId2"/>
          <a:stretch/>
        </p:blipFill>
        <p:spPr>
          <a:xfrm>
            <a:off x="922320" y="3384720"/>
            <a:ext cx="7500960" cy="29206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4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23 CuadroTexto"/>
          <p:cNvSpPr/>
          <p:nvPr/>
        </p:nvSpPr>
        <p:spPr>
          <a:xfrm>
            <a:off x="611280" y="2421000"/>
            <a:ext cx="360360" cy="368280"/>
          </a:xfrm>
          <a:prstGeom prst="rect">
            <a:avLst/>
          </a:prstGeom>
          <a:solidFill>
            <a:srgbClr val="66cbc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23 CuadroTexto"/>
          <p:cNvSpPr/>
          <p:nvPr/>
        </p:nvSpPr>
        <p:spPr>
          <a:xfrm>
            <a:off x="4284720" y="2060640"/>
            <a:ext cx="360360" cy="368280"/>
          </a:xfrm>
          <a:prstGeom prst="rect">
            <a:avLst/>
          </a:prstGeom>
          <a:solidFill>
            <a:srgbClr val="66cbc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19 Conector recto"/>
          <p:cNvSpPr/>
          <p:nvPr/>
        </p:nvSpPr>
        <p:spPr>
          <a:xfrm flipV="1">
            <a:off x="2340000" y="3284640"/>
            <a:ext cx="0" cy="151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20 Conector recto"/>
          <p:cNvSpPr/>
          <p:nvPr/>
        </p:nvSpPr>
        <p:spPr>
          <a:xfrm flipV="1">
            <a:off x="6156360" y="3068280"/>
            <a:ext cx="0" cy="129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563400" y="2879640"/>
            <a:ext cx="8040960" cy="39592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los distintos tipos de r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2692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formación de las sedimenta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5640" y="1628640"/>
            <a:ext cx="252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viento o las corrientes de agua arrancan fragmentos a las rocas y los transporta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635280" y="1341360"/>
            <a:ext cx="2016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 el tiempo,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sedimentos se van depositando unos sobre otros formando cap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6035760" y="1197000"/>
            <a:ext cx="310824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ndo hay muchas capas,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sedimentos de las capas inferiores son aplastados por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de las capas superiores,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 que los transforma en rocas sedimentari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23 CuadroTexto"/>
          <p:cNvSpPr/>
          <p:nvPr/>
        </p:nvSpPr>
        <p:spPr>
          <a:xfrm>
            <a:off x="395280" y="1700280"/>
            <a:ext cx="360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23 CuadroTexto"/>
          <p:cNvSpPr/>
          <p:nvPr/>
        </p:nvSpPr>
        <p:spPr>
          <a:xfrm>
            <a:off x="3203640" y="1413000"/>
            <a:ext cx="360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23 CuadroTexto"/>
          <p:cNvSpPr/>
          <p:nvPr/>
        </p:nvSpPr>
        <p:spPr>
          <a:xfrm>
            <a:off x="5580000" y="1268280"/>
            <a:ext cx="360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23 Conector recto"/>
          <p:cNvSpPr/>
          <p:nvPr/>
        </p:nvSpPr>
        <p:spPr>
          <a:xfrm flipV="1">
            <a:off x="2340000" y="2637000"/>
            <a:ext cx="0" cy="129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24 Conector recto"/>
          <p:cNvSpPr/>
          <p:nvPr/>
        </p:nvSpPr>
        <p:spPr>
          <a:xfrm flipV="1">
            <a:off x="4067280" y="2708280"/>
            <a:ext cx="0" cy="19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26 Conector recto"/>
          <p:cNvSpPr/>
          <p:nvPr/>
        </p:nvSpPr>
        <p:spPr>
          <a:xfrm flipV="1">
            <a:off x="7596360" y="2637000"/>
            <a:ext cx="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1T09:53:21Z</dcterms:modified>
  <cp:revision>49</cp:revision>
  <dc:subject/>
  <dc:title>Diapositiva 1</dc:title>
</cp:coreProperties>
</file>